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1BD-2CD5-48DB-88D5-636E4A19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2FB-6268-4036-A539-57006166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E70-C24E-4DB0-823A-308917DF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DB8-9C39-420A-91DB-4E2BFAB6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1341-434F-4844-9812-CE5A49F9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025F-0852-4447-A6B4-4B99D1CA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1A02-C32C-4FB6-B00A-4205F10F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4141-8BFF-45C8-ABEB-EAF010CF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0C2D-22E1-4C83-BA2B-42BD5C8C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244F-F455-4312-A465-26F3EC3B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5741-80C5-419D-863F-5631031C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12B-216A-4500-BAE6-8F014617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32AE-6065-486D-9C94-8CCE2EF4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EBF3-57B8-4CA4-848C-1CB82510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13DB-A347-4ADA-8AAA-9F6283BF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E092-DE05-4DF7-8CF5-F92E4922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0A9C-0104-47E2-A553-AABD6A45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CBF-0036-461E-9195-3CE65CE0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585-666C-4A30-AB18-BEC191D4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6E2-71C6-41F6-9103-D63F29ED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601-C75A-4105-90CF-6A8617C1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C20-F5E7-400B-977C-F4F7F29D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C41-DCB2-462D-8559-EC818039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139-9055-42B1-8C44-A4C5EAEB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26EE-6CA8-49C5-83C2-015E368A671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696F-219C-48C3-8434-2C9894BC4F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Выполнила Пешкина Наталья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636 группа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76360" y="838080"/>
            <a:ext cx="6191280" cy="323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спорта комнатных расте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6666"/>
                </a:solidFill>
                <a:latin typeface="AnastasiaScript"/>
              </a:rPr>
              <a:t>Бальзамин султанский (семейство Бальзаминовые)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5410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на – тропики Африки. Неприхотливое, обильно цветущее растение небольшого размера с сильно ветвящимися светло-зелеными сочными полупрозрачными стеблями. На их находятся небольшие поочередно расположенные светлые блестящие листья яйцевидной формы, на длинных черешках; край листа зубчатый. Бальзамин комнатный обильно и продолжительно цветет ярко розовыми или малиновыми цветками, реже лилиловыми или белыми, простыми или махровыми, имеющими шпорец. Бальзамин светолюбивое быстро растущее растение, развивается в любой почве, но предпочитает легкую питательную земляную смесь. Поливают бальзамин зимой умеренно, летом обильно; притеняют от прямых солнечных лучей. Бальзамины быстро стареют и требуют омоложения. Бальзамин размножается семенами и черенками, которые легко приживаются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63363" t="65982" r="5146" b="7508"/>
          <a:stretch/>
        </p:blipFill>
        <p:spPr>
          <a:xfrm>
            <a:off x="6400800" y="2438280"/>
            <a:ext cx="237024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006666"/>
                </a:solidFill>
                <a:latin typeface="AnastasiaScript"/>
              </a:rPr>
              <a:t>Бегония Рекс, королевская (семейство Бегониевые)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5257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одина – остров Ява. Это самая красивая из декоративно-лиственных бегоний. Невысокие растения с ползучим извивающимся свисающим стеблем, на котором видны многочисленные следы от опавших листьев. Листья крупные, очень красиво окрашенные – у некоторых сортов они темно-бордовые с серебристыми пятнами, у других серебристо-розовые, изумрудно-зеленые с темно-красной каймой, буроватые с серебристым оттенком. Края листьев ровные или изрезанные. Листья расположены на длинных черешках, покрыты редкими жесткими ворсинками. Цветет бегония мелкими светлыми цветочками. Сажают бегонию в неглубокий горшок с легкой земляной смесью, состоящей из листовой, перегнойной, торфяной земли и песка в соотношении 1:2:1:2.  Поливают бегонию летом обильно, зимой умеренно, желательно теплой водой. Размножается делением корневища с пучками листьев, листовыми черенками или листом, срезанным и поставленным в воду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0" y="2971800"/>
            <a:ext cx="1779480" cy="18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nastasiaScript"/>
              </a:rPr>
              <a:t>Сеткрезия (семейство Коммелиновые, родственное традесканциям)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личается большой декоративностью и разнообразием окраски. По размеру сеткрезии больше традесканций, у них крупнее побеги и листья, окраска листьев разная, в зависимости от видов бледно-зеленая, темно-зеленая, фиолетовая, светло-зеленая с белыми полосками; у одних видов листья и побеги густо покрыты мягким пушком, у других опущена часть листа – влагалищная или нижняя. Стебли растений разной длины: короткие, сильно ветвящиеся либо длинные, достигающие 1 метра. Цветут белыми или розовыми цветами. Растение требует светлого помещения. Уход за растением и размножение сеткрезий такие как у традесканций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56356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nastasiaScript"/>
              </a:rPr>
              <a:t>Хлорофитум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nastasiaScript"/>
              </a:rPr>
              <a:t>(семейство Лилейны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одина – Южная Африка. Широко распространенное неприхотливое ампельное растение с длинными ярко-зелеными линейными листьями, собранными в пучки. Существуют более декоративные разновидности хлорофитума: на их листьях есть яркие белые продольные полоски, расположенные по краю или в середине листа. У взрослого растения из середины пучка листьев вырастают длинные свисающие цветочные стрелки, на которых появляются невзрачные мелкие белые цветы, а затем детки (розетки листьев с воздушными корнями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Хлорофитум хорошо растет как в прохладных помещениях, так и в комнатах с более высокой температурой воздуха. Переносит затенение. Летом растение обильно поливают. Сажают хлорофитум в земляную смесь, состоящую из листовой перегнойной земли и песка в соотношении 2:2:1. Размножается растение отводками и молодыми листовыми розетками. Пестролистным разновидностям хлорофитумов требуется больше количества света; при недостатке света на листьях исчезает белая краска. Растение часто поражаются щитовой тл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242244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6666"/>
                </a:solidFill>
                <a:latin typeface="AnastasiaScript"/>
              </a:rPr>
              <a:t>Примула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nastasiaScript"/>
              </a:rPr>
              <a:t>(семейство Первоцветны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на – Китай. Невысокое обильно и продолжительно цветущее растение с укороченным стеблем и длинночерешковыми листьями, собранными в прикорневую розетку. Листья светлые, почковидные, опушенные, с волнистым краем. Цветы крупные, простые, разнообразной окраски, чаще светло или темно розовой, иногда малиновой, собраны в соцветие зонтик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имулы хорошо растут и цветут в светлом прохладном помещении; их иногда ставят в пространство между рамами окна, забирая оттуда лишь в сильные морозы. В этих условиях они особенно обильно цветут, причем окраска цветов становится густой и сочной. Цветут примулы всю зиму и до середины весны. Цветущие растения надо обильно поливать и удобрять; по окончании цветения поливку уменьшают. Пересаживают примулы ежегодно в легкую питательную почву, в которой нельзя добавлять свежий навоз, иначе растение заболеет и погибнет. Размножаются примулы делением растений при пересадк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120760" cy="21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371600" y="3166920"/>
            <a:ext cx="693432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22T09:25:4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